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EE0-ED72-461B-A29A-DB9C491B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58C-852B-4E48-ABC3-25E21290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E87-0AEA-4773-806D-17D4E956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D67-D0C8-4A42-B462-BC5118A9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7F7-5BC1-4DC2-AA8E-85167B3B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FC5-A8A9-43CD-AF6F-0929177E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3D4-2AB9-4AF6-B9D6-A676CA8B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78C-5E44-4095-80FF-C2F6847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75C-7E12-4D80-96FB-CCCF88B5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5B1-3CF6-45A9-AFF6-2B9129F6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61C-5699-4D70-8269-E91B670D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D1D-912F-421A-A749-8925133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2129-C597-4506-9BB3-270C18D0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ator Lab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3504960" cy="2463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05520" y="4038480"/>
            <a:ext cx="3809880" cy="243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49236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4120" y="30492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stant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rvived &amp; repro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le others were wipe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, only those with resistance ar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rs that blended into the fabric were most successful - hidden from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this was expected because protective coloring is an adaptation for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- the colors that stood out against the fabric went down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 too many other variables that would be  difficult to cont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ation that helps an organism survive &amp; reproduce in its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were camoflaged lived longer and had more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ne or in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ed or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vs.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ation (ex: white hare w/o snow co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ridge in trees after leaves fall = ex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season/dry season (in drought, animals must approach water hole even though predators are likely to be there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vailabli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ators reduce competition = more food, habitat &amp; mates for those that r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ators remove sick &amp; old = healthy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pollution turned the trees black &amp; the darker variety survived &amp; reproduced at much greater rates than the lighter var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5:53:48Z</dcterms:created>
  <dc:creator>NHS NPS</dc:creator>
  <dc:description/>
  <dc:language>en-US</dc:language>
  <cp:lastModifiedBy>NHS NPS</cp:lastModifiedBy>
  <dcterms:modified xsi:type="dcterms:W3CDTF">2014-03-21T16:13:05Z</dcterms:modified>
  <cp:revision>2</cp:revision>
  <dc:subject/>
  <dc:title>Predator Lab</dc:title>
</cp:coreProperties>
</file>